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067B-293A-4DC3-B6B0-6BA4000761F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087F-76F1-4122-A546-3B0B62B2C7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825C-C4B0-4B0F-B29A-433CEDA1F7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9DC8-EC60-4248-AF2D-D75956F8B03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65D1-CB5E-4986-B53E-03EF5F5177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B28F-5025-4BC9-8616-11A1B89DEBF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4BAD-2017-48F5-A6B0-4BBE0FF4C71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CD0B-CA6B-4D29-9EE9-02A9074996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A510-93A9-4C15-812E-0D1E5583D6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C287-A5C4-41D6-8B41-5B821170526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EDFA-B126-4A05-A030-C0A9EEBF11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C86A-E462-40AA-8052-ACB1D524326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E0EA-DCF4-45F9-AA22-C562ECD4EB2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B626-63A3-46CF-8199-67905451AD1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3049-A03F-450A-A6E3-4685EE3DDC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23F1-3208-4842-855E-1F8A880ECE9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0751-E26E-4DCF-91CA-E41FA4BD50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51BF-C9B3-403C-A37D-88CC9A309E8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5376-0BF8-4FC6-A55B-EBAC300B76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FDA5-7DA3-44C9-B76D-2594E62CBF0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8D6B-CA75-4F8F-89A5-4C44C42CA2C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3B43-BDAB-4B4E-97A5-58490CD06A8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A1E8-2881-4BBE-961C-D1F771AD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2338-05B4-4A50-98E1-28A1E5EC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E65A-7F6A-4C6D-BA82-C03544E5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BEBB-2165-499B-AD5E-63891C3F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56FF-A13E-42AE-BA08-D3AB9897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6A4B-FEAB-417C-B9BA-5F873613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4CB0-6EC6-48C6-8A54-2D6D41F2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A6C1-4784-4303-82D0-088E26D8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01F0-0464-4C67-AD0A-2ED8C3DC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86C6-8479-4E95-86AD-5C6CB510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12B3-5619-4C95-9710-D9C51B51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8079-55E3-4B22-8F4E-DD317EF1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A9F0-6023-44D8-9CB2-B73D1010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6274-F567-44DD-A756-809EA2F4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3FC7-9BB1-4275-A351-97F747C5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72F4-6D55-4129-949C-E2713C37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BA16-22D6-4942-805C-46300B60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A34F1-2DC0-4130-AF71-58C56FD3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87F542-BD8B-45F9-B800-4223147C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7EB0A6-CA11-4EE6-A358-ACE044A7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2EE5A-CDD4-4714-A9EC-213D23DD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A4D28-30C7-4208-90DB-5E85C86A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D3FC-B9C0-4EFF-AF9B-C315F4FD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4CC20-43E0-4A96-BE2D-62B83AF1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0BEA95-2D1D-4563-B218-1C31D296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010D7-589A-4DEA-96B5-9BEF905C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654343-1754-4CA0-B06B-53A56A3C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E9977-45A1-43C6-9DA3-0CA543FC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E8302A-FA9F-483B-B1CE-D74707B1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BBB79-66F3-4ADE-88F2-5327A953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B74E67-84A5-4555-B821-DB97AFD3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90315F-DE6F-4213-A330-2B696851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430469-A89B-4846-93A7-1864C3E4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9C67-10A7-4102-A4A8-F3910C71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E4E1E2-A7DB-4664-AE51-95B8FBF3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FBAF3C-7F23-4BC0-B273-0BE3289E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2B78AA-3222-4872-9062-791A2DA3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CDB640-153D-4E1E-9685-43560953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644C03-B6AF-44A7-A7FE-0A0857A5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CB6B36-3163-4CEF-B892-699C1D62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6AC361-D209-4AE2-97C6-170F033C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6F3CC8-3D73-4FD2-A1C4-6C357799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68C0E8-B6EE-4A27-A0B1-35D9E85A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32BA3C-BA96-4C6F-A443-66DC98DD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8FF9-05A1-42C8-8E97-E02E9A46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E27244-B9D3-480B-B091-73D2EFE9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F709D0-E541-49AA-999B-CB4FB2BE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B3C0DF-98A7-437E-B252-C7C32D42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8C3F1D-73CC-4F74-9A77-0F988755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328496-798B-49B0-9CC6-972D229D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1A2755-5A80-413E-A2A2-A2BCB511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054FA5-D66E-495F-A8EE-6359CB0D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6C2CEA-2CBE-46FD-A164-1023305D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287CFA-BE00-4958-9B17-FC8F5FCA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14B459-8202-4D45-AB32-90D97419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95B2-AFFD-454A-9EFE-4E71B853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F88CCC-1D52-4F51-8D06-54F72545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352C0-F976-4202-9BE5-753D5571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DB917-AD0C-401C-8B76-69B0B69B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8ED83-E278-40F8-92F7-5EC0A9E2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0E0D1-6957-433F-913E-16FEFE9C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12313-3E42-473E-9F83-60F2AB09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135D5-455A-4B84-B3B8-EA82333E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230D2-1D85-4E64-9B4A-DC794580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D4019-1022-4DD1-8B12-FFA55A47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76F05-2C63-4DFD-A7E4-A779B473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B33D-8E9D-4557-91DD-5480D165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DB750-CAC7-41C5-A074-30F0A2C4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DC0CA-A707-41EC-A7CD-48BC211C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3C0FA-23B5-47A6-88DF-25F050F1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B38BA2-060B-4B01-889B-FD443832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A80B0D-30E4-444F-85C8-14C38848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BDD631-832B-402D-9E0D-37C1A365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B75567-E664-4E3A-A0F6-B0C235E4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D721D7-F0C8-4758-AB26-D4674883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C86678-7368-4EA2-B564-0BF8A5F5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1AFD0E-0051-4462-BC93-23141AEA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D3AF-A07C-4FD2-8124-A9697B6C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BB244F-D655-4766-9C0D-22B290DD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DC60F1-C78E-4E44-A7DA-820B03EB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958089-837E-48CF-B477-3F99F51C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E187C9-1A15-471B-9818-150077D7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3F6BA8-5144-4A7D-9F27-4A5E223B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7AB24-8341-40E3-8E48-C1F559C1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AEBC0-8827-4F60-9923-647C6378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DEA3A-E3B9-4A34-82A3-76F86B45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36B0A-0F07-4A39-BA38-020D117C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1240B-E44A-478B-8B75-CBCD059E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CA56-6D54-4846-85A1-337EFB2A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30A42-C540-443A-8523-D5E92E38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9EA42-52F1-4A07-974B-5F4A3CD5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570E8-D489-4051-84F5-5BF0CDB1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BBC2D-B02C-4A22-B5CD-46135B3A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43DC1-5450-4F0B-9F6E-BAC78828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1CCF7-EA61-4B1E-B7B5-B89E84CE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BC935-5F5C-4874-A189-34E3D12C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C960-3F16-4C38-8F07-6C486646B2BF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6223-0DD1-4068-9724-6839175627F7}" type="slidenum">
              <a:rPr b="1" lang="en-GB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5E1F-71C8-480A-BFAF-5AB5E5DC7EAB}" type="slidenum"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3E8B-DACB-4533-AA2F-59D380F40943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85EB-300C-4DDE-AB4C-6EA56505437B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E9AC-BC1F-4CF7-AFE7-D6B18E81847C}" type="slidenum">
              <a:rPr b="1" lang="en-GB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AE56-93B6-4D32-B991-E0B8A06464FF}" type="slidenum"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8D7D-1B05-460D-9E38-E1DFEA96303E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uropa.eu.int/mariecurie-actions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dicine.tcd.ie/pharmacology_therapeutics/marie_curie_training_programme/index.php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uore.iss.it/eurocis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43080" y="271476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bddc3"/>
                </a:solidFill>
                <a:latin typeface="Tw Cen MT"/>
              </a:rPr>
              <a:t>KEY FACTS REGARDING CVD TREATMENTS:</a:t>
            </a:r>
            <a:br>
              <a:rPr sz="4000"/>
            </a:br>
            <a:r>
              <a:rPr b="0" lang="en-GB" sz="4000" spc="-1" strike="noStrike">
                <a:solidFill>
                  <a:srgbClr val="ebddc3"/>
                </a:solidFill>
                <a:latin typeface="Tw Cen MT"/>
              </a:rPr>
              <a:t>USING THE EVIDENCE BASE IN MODELLING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183528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tin O’Flah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on Cape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sion of Public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3149640" y="216000"/>
            <a:ext cx="5599080" cy="866520"/>
            <a:chOff x="3149640" y="216000"/>
            <a:chExt cx="5599080" cy="866520"/>
          </a:xfrm>
        </p:grpSpPr>
        <p:pic>
          <p:nvPicPr>
            <p:cNvPr id="360" name="Picture 7" descr="Marie Curies Actions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396200" y="216000"/>
              <a:ext cx="13525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8" descr="Logo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635280" y="274680"/>
              <a:ext cx="36482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9"/>
            <p:cNvSpPr/>
            <p:nvPr/>
          </p:nvSpPr>
          <p:spPr>
            <a:xfrm>
              <a:off x="3149640" y="647640"/>
              <a:ext cx="39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e9d333"/>
                  </a:solidFill>
                  <a:latin typeface="Calibri"/>
                  <a:ea typeface="Arial"/>
                </a:rPr>
                <a:t>Cardiovascular Epidemiology and Epidemiological Model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Chronic Angin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Progressive occlusion by an atherosclerotic plaque, causing myocardial ischemia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Clinical definition based on anginal symptoms, pattern and duration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Several validated questionnaires (Rose questionnaire)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Avoid ischemic events (secondary prevention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Symptom relief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AMI/UA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Symptoms and Quality of Life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Secondary Prevention in CVD patient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Who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very patient with Clinical CHD (Survivors of ACS, Chronic Angina, CHD related heart failure and) and Strok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spirin/Clopidogr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nticoagulan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CEI/ARII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eta blockers (stroke: may not be indicated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ati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P reduc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moking cess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habili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CAB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mpared to Medical treatmen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Has an effect on mortality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Benefit changes with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Extent of coronary artery involvemen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Ventricular func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4786200" y="1571760"/>
            <a:ext cx="3695760" cy="23144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5"/>
          <p:cNvSpPr/>
          <p:nvPr/>
        </p:nvSpPr>
        <p:spPr>
          <a:xfrm>
            <a:off x="6000840" y="407196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Yusuf et al. Lancet 1994; 344: 563-70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PC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mpared to Medical treat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has no mortality benefit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produces symptom relief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1"/>
          <a:stretch/>
        </p:blipFill>
        <p:spPr>
          <a:xfrm>
            <a:off x="4786200" y="2071800"/>
            <a:ext cx="3591000" cy="240012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6"/>
          <p:cNvSpPr/>
          <p:nvPr/>
        </p:nvSpPr>
        <p:spPr>
          <a:xfrm>
            <a:off x="5357880" y="4643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Arial"/>
              </a:rPr>
              <a:t>Bucher et al. BMJ 2000; 321: 73-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Drug eluting ste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0" name="Picture 2" descr="http://content.nejm.org/content/vol356/issue15/images/large/05f2.jpeg"/>
          <p:cNvPicPr/>
          <p:nvPr/>
        </p:nvPicPr>
        <p:blipFill>
          <a:blip r:embed="rId1"/>
          <a:stretch/>
        </p:blipFill>
        <p:spPr>
          <a:xfrm>
            <a:off x="1319040" y="1428840"/>
            <a:ext cx="6505920" cy="472284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4"/>
          <p:cNvSpPr/>
          <p:nvPr/>
        </p:nvSpPr>
        <p:spPr>
          <a:xfrm>
            <a:off x="5006520" y="6286680"/>
            <a:ext cx="2364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Boden et al. NEJM 356 (15): 15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rogressive loss of the pump function of the hear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Clinical syndrome + a measure of ventricular function. Some biomarkers are beeing increasingly used in clinical practice.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Decrease mortality from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3" marL="1343880" indent="-223920">
              <a:lnSpc>
                <a:spcPct val="8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Progressive heart failure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3" marL="1343880" indent="-223920">
              <a:lnSpc>
                <a:spcPct val="8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Sudden 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Symptom relief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Resource use control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Symptoms and Quality of Life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Proxy measures of ventricular function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vailable treatments for Heart Failur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Reha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CEI/ARII 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spirin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eta-block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Implantable Cardio Defibrillato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pironolacto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nticoagulants 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miodaron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atin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atins in 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urrent Debat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hysiopathological thinking suggests a rol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Role of statins in PostMI and C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Observational evidence suggest an effe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Clinical trials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CORONA : no effec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GISSI: expecting resul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atins in 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9" name="Picture 4" descr="Image"/>
          <p:cNvPicPr/>
          <p:nvPr/>
        </p:nvPicPr>
        <p:blipFill>
          <a:blip r:embed="rId1"/>
          <a:stretch/>
        </p:blipFill>
        <p:spPr>
          <a:xfrm>
            <a:off x="142920" y="1424160"/>
            <a:ext cx="8429760" cy="50050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5"/>
          <p:cNvSpPr/>
          <p:nvPr/>
        </p:nvSpPr>
        <p:spPr>
          <a:xfrm>
            <a:off x="928800" y="1357200"/>
            <a:ext cx="300024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CHD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5214960" y="1357200"/>
            <a:ext cx="314316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Non CHD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5805000" y="6433200"/>
            <a:ext cx="271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 Am Coll Cardiol. 2008 Jan 29;51(4):415-2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71280" y="1357200"/>
            <a:ext cx="42876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8"/>
          <p:cNvSpPr/>
          <p:nvPr/>
        </p:nvSpPr>
        <p:spPr>
          <a:xfrm>
            <a:off x="4286160" y="1357200"/>
            <a:ext cx="42876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Key issues when modelling intervention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Mortality benefit or Quality of Lif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Which patients are eligibl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Current guidelin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Simplified model of the Clinical phase of Atherosclerosi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364" name="Oval 3"/>
          <p:cNvGrpSpPr/>
          <p:nvPr/>
        </p:nvGrpSpPr>
        <p:grpSpPr>
          <a:xfrm>
            <a:off x="1085760" y="2395440"/>
            <a:ext cx="962280" cy="3249720"/>
            <a:chOff x="1085760" y="2395440"/>
            <a:chExt cx="962280" cy="3249720"/>
          </a:xfrm>
        </p:grpSpPr>
        <p:pic>
          <p:nvPicPr>
            <p:cNvPr id="365" name="Oval 3" descr=""/>
            <p:cNvPicPr/>
            <p:nvPr/>
          </p:nvPicPr>
          <p:blipFill>
            <a:blip r:embed="rId1"/>
            <a:stretch/>
          </p:blipFill>
          <p:spPr>
            <a:xfrm>
              <a:off x="1085760" y="2395440"/>
              <a:ext cx="962280" cy="32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1268280" y="2889360"/>
              <a:ext cx="606600" cy="22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w Cen MT"/>
                </a:rPr>
                <a:t>At r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Oval 4"/>
          <p:cNvSpPr/>
          <p:nvPr/>
        </p:nvSpPr>
        <p:spPr>
          <a:xfrm>
            <a:off x="4286160" y="1857240"/>
            <a:ext cx="714600" cy="714600"/>
          </a:xfrm>
          <a:prstGeom prst="ellipse">
            <a:avLst/>
          </a:prstGeom>
          <a:solidFill>
            <a:srgbClr val="000000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Sudden Dea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6"/>
          <p:cNvSpPr/>
          <p:nvPr/>
        </p:nvSpPr>
        <p:spPr>
          <a:xfrm>
            <a:off x="2786040" y="5000760"/>
            <a:ext cx="714240" cy="714240"/>
          </a:xfrm>
          <a:prstGeom prst="ellipse">
            <a:avLst/>
          </a:prstGeom>
          <a:solidFill>
            <a:srgbClr val="a5ab81"/>
          </a:solidFill>
          <a:ln w="10080">
            <a:solidFill>
              <a:srgbClr val="a5ab81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Chronic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Ang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8"/>
          <p:cNvSpPr/>
          <p:nvPr/>
        </p:nvSpPr>
        <p:spPr>
          <a:xfrm>
            <a:off x="2643120" y="3857760"/>
            <a:ext cx="928800" cy="714240"/>
          </a:xfrm>
          <a:prstGeom prst="ellipse">
            <a:avLst/>
          </a:prstGeom>
          <a:solidFill>
            <a:srgbClr val="efcdc1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w Cen MT"/>
              </a:rPr>
              <a:t>Unstable Ang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2643120" y="3289320"/>
            <a:ext cx="928800" cy="714240"/>
          </a:xfrm>
          <a:prstGeom prst="ellipse">
            <a:avLst/>
          </a:prstGeom>
          <a:solidFill>
            <a:srgbClr val="dd8047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Acute Myocardial Infar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Oval 9"/>
          <p:cNvGrpSpPr/>
          <p:nvPr/>
        </p:nvGrpSpPr>
        <p:grpSpPr>
          <a:xfrm>
            <a:off x="5516640" y="3468600"/>
            <a:ext cx="817560" cy="817560"/>
            <a:chOff x="5516640" y="3468600"/>
            <a:chExt cx="817560" cy="817560"/>
          </a:xfrm>
        </p:grpSpPr>
        <p:pic>
          <p:nvPicPr>
            <p:cNvPr id="372" name="Oval 9" descr=""/>
            <p:cNvPicPr/>
            <p:nvPr/>
          </p:nvPicPr>
          <p:blipFill>
            <a:blip r:embed="rId2"/>
            <a:stretch/>
          </p:blipFill>
          <p:spPr>
            <a:xfrm>
              <a:off x="5516640" y="34686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5676840" y="360504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Heart Fail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Oval 10"/>
          <p:cNvGrpSpPr/>
          <p:nvPr/>
        </p:nvGrpSpPr>
        <p:grpSpPr>
          <a:xfrm>
            <a:off x="6877080" y="3402000"/>
            <a:ext cx="816120" cy="816120"/>
            <a:chOff x="6877080" y="3402000"/>
            <a:chExt cx="816120" cy="816120"/>
          </a:xfrm>
        </p:grpSpPr>
        <p:pic>
          <p:nvPicPr>
            <p:cNvPr id="375" name="Oval 10" descr=""/>
            <p:cNvPicPr/>
            <p:nvPr/>
          </p:nvPicPr>
          <p:blipFill>
            <a:blip r:embed="rId3"/>
            <a:stretch/>
          </p:blipFill>
          <p:spPr>
            <a:xfrm>
              <a:off x="6877080" y="3402000"/>
              <a:ext cx="81612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7034040" y="3533760"/>
              <a:ext cx="5050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77" name="Curved Connector 12"/>
          <p:cNvCxnSpPr/>
          <p:nvPr/>
        </p:nvCxnSpPr>
        <p:spPr>
          <a:xfrm flipV="1">
            <a:off x="2000160" y="2214000"/>
            <a:ext cx="2286720" cy="1786680"/>
          </a:xfrm>
          <a:prstGeom prst="curvedConnector5">
            <a:avLst>
              <a:gd name="adj1" fmla="val 11651"/>
              <a:gd name="adj2" fmla="val 50000"/>
              <a:gd name="adj3" fmla="val 11651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8" name="Curved Connector 16"/>
          <p:cNvCxnSpPr/>
          <p:nvPr/>
        </p:nvCxnSpPr>
        <p:spPr>
          <a:xfrm flipV="1">
            <a:off x="2000160" y="3965040"/>
            <a:ext cx="572400" cy="36000"/>
          </a:xfrm>
          <a:prstGeom prst="curvedConnector5">
            <a:avLst>
              <a:gd name="adj1" fmla="val 49968"/>
              <a:gd name="adj2" fmla="val 49494"/>
              <a:gd name="adj3" fmla="val 4996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9" name="Curved Connector 20"/>
          <p:cNvCxnSpPr/>
          <p:nvPr/>
        </p:nvCxnSpPr>
        <p:spPr>
          <a:xfrm>
            <a:off x="1999800" y="4000680"/>
            <a:ext cx="786600" cy="135792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0" name="Curved Connector 22"/>
          <p:cNvCxnSpPr>
            <a:stCxn id="368" idx="0"/>
            <a:endCxn id="381" idx="4"/>
          </p:cNvCxnSpPr>
          <p:nvPr/>
        </p:nvCxnSpPr>
        <p:spPr>
          <a:xfrm flipV="1" rot="16200000">
            <a:off x="2981520" y="4839120"/>
            <a:ext cx="286560" cy="3708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2" name="Shape 24"/>
          <p:cNvCxnSpPr>
            <a:stCxn id="368" idx="6"/>
          </p:cNvCxnSpPr>
          <p:nvPr/>
        </p:nvCxnSpPr>
        <p:spPr>
          <a:xfrm flipV="1">
            <a:off x="3499920" y="4214160"/>
            <a:ext cx="2429640" cy="114372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3" name="Shape 26"/>
          <p:cNvCxnSpPr>
            <a:stCxn id="368" idx="6"/>
          </p:cNvCxnSpPr>
          <p:nvPr/>
        </p:nvCxnSpPr>
        <p:spPr>
          <a:xfrm flipV="1">
            <a:off x="3500280" y="4142880"/>
            <a:ext cx="3787200" cy="121536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4" name="Shape 28"/>
          <p:cNvCxnSpPr>
            <a:stCxn id="367" idx="6"/>
          </p:cNvCxnSpPr>
          <p:nvPr/>
        </p:nvCxnSpPr>
        <p:spPr>
          <a:xfrm>
            <a:off x="5000760" y="2214360"/>
            <a:ext cx="2286720" cy="121500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5" name="Shape 30"/>
          <p:cNvCxnSpPr/>
          <p:nvPr/>
        </p:nvCxnSpPr>
        <p:spPr>
          <a:xfrm flipV="1">
            <a:off x="3642840" y="3428280"/>
            <a:ext cx="3644280" cy="500760"/>
          </a:xfrm>
          <a:prstGeom prst="curvedConnector5">
            <a:avLst>
              <a:gd name="adj1" fmla="val 17121"/>
              <a:gd name="adj2" fmla="val 94244"/>
              <a:gd name="adj3" fmla="val 17121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6" name="Oval 33"/>
          <p:cNvSpPr/>
          <p:nvPr/>
        </p:nvSpPr>
        <p:spPr>
          <a:xfrm>
            <a:off x="4286160" y="3646440"/>
            <a:ext cx="857520" cy="714600"/>
          </a:xfrm>
          <a:prstGeom prst="ellipse">
            <a:avLst/>
          </a:prstGeom>
          <a:solidFill>
            <a:srgbClr val="d8b25c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MI Surviv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Curved Connector 35"/>
          <p:cNvCxnSpPr>
            <a:stCxn id="381" idx="6"/>
            <a:endCxn id="386" idx="2"/>
          </p:cNvCxnSpPr>
          <p:nvPr/>
        </p:nvCxnSpPr>
        <p:spPr>
          <a:xfrm>
            <a:off x="3643200" y="3965400"/>
            <a:ext cx="64332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8" name="Curved Connector 37"/>
          <p:cNvCxnSpPr>
            <a:stCxn id="386" idx="6"/>
          </p:cNvCxnSpPr>
          <p:nvPr/>
        </p:nvCxnSpPr>
        <p:spPr>
          <a:xfrm flipV="1">
            <a:off x="5143680" y="3857040"/>
            <a:ext cx="429120" cy="14652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9" name="Curved Connector 39"/>
          <p:cNvCxnSpPr>
            <a:stCxn id="386" idx="0"/>
          </p:cNvCxnSpPr>
          <p:nvPr/>
        </p:nvCxnSpPr>
        <p:spPr>
          <a:xfrm flipH="1" flipV="1" rot="5400000">
            <a:off x="5891760" y="2251440"/>
            <a:ext cx="218160" cy="2572560"/>
          </a:xfrm>
          <a:prstGeom prst="curvedConnector5">
            <a:avLst>
              <a:gd name="adj1" fmla="val 204958"/>
              <a:gd name="adj2" fmla="val 49993"/>
              <a:gd name="adj3" fmla="val 20495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0" name="Curved Connector 41"/>
          <p:cNvCxnSpPr/>
          <p:nvPr/>
        </p:nvCxnSpPr>
        <p:spPr>
          <a:xfrm flipV="1">
            <a:off x="6286320" y="3785400"/>
            <a:ext cx="643320" cy="72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1" name="Oval 42"/>
          <p:cNvSpPr/>
          <p:nvPr/>
        </p:nvSpPr>
        <p:spPr>
          <a:xfrm>
            <a:off x="2571840" y="3214800"/>
            <a:ext cx="1071360" cy="1500120"/>
          </a:xfrm>
          <a:prstGeom prst="ellipse">
            <a:avLst/>
          </a:prstGeom>
          <a:solidFill>
            <a:srgbClr val="de3f2e">
              <a:alpha val="38000"/>
            </a:srgbClr>
          </a:solidFill>
          <a:ln w="19080">
            <a:solidFill>
              <a:srgbClr val="c0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Oval 46"/>
          <p:cNvGrpSpPr/>
          <p:nvPr/>
        </p:nvGrpSpPr>
        <p:grpSpPr>
          <a:xfrm>
            <a:off x="3657600" y="5967360"/>
            <a:ext cx="822240" cy="824040"/>
            <a:chOff x="3657600" y="5967360"/>
            <a:chExt cx="822240" cy="824040"/>
          </a:xfrm>
        </p:grpSpPr>
        <p:pic>
          <p:nvPicPr>
            <p:cNvPr id="392" name="Oval 46" descr=""/>
            <p:cNvPicPr/>
            <p:nvPr/>
          </p:nvPicPr>
          <p:blipFill>
            <a:blip r:embed="rId4"/>
            <a:stretch/>
          </p:blipFill>
          <p:spPr>
            <a:xfrm>
              <a:off x="3657600" y="5967360"/>
              <a:ext cx="82224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3819600" y="610560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Strok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4" name="Curved Connector 47"/>
          <p:cNvCxnSpPr/>
          <p:nvPr/>
        </p:nvCxnSpPr>
        <p:spPr>
          <a:xfrm>
            <a:off x="1999800" y="4000680"/>
            <a:ext cx="1715400" cy="2358000"/>
          </a:xfrm>
          <a:prstGeom prst="curvedConnector5">
            <a:avLst>
              <a:gd name="adj1" fmla="val 10537"/>
              <a:gd name="adj2" fmla="val 49992"/>
              <a:gd name="adj3" fmla="val 10537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5" name="Curved Connector 52"/>
          <p:cNvCxnSpPr/>
          <p:nvPr/>
        </p:nvCxnSpPr>
        <p:spPr>
          <a:xfrm flipV="1">
            <a:off x="4429080" y="4142880"/>
            <a:ext cx="2858400" cy="221544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6" name="Curved Connector 55"/>
          <p:cNvCxnSpPr>
            <a:endCxn id="381" idx="4"/>
          </p:cNvCxnSpPr>
          <p:nvPr/>
        </p:nvCxnSpPr>
        <p:spPr>
          <a:xfrm flipV="1" rot="16200000">
            <a:off x="2945880" y="4874760"/>
            <a:ext cx="1286640" cy="965880"/>
          </a:xfrm>
          <a:prstGeom prst="curvedConnector5">
            <a:avLst>
              <a:gd name="adj1" fmla="val 81108"/>
              <a:gd name="adj2" fmla="val 50000"/>
              <a:gd name="adj3" fmla="val 8110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Efficacy vs effectivenes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CT and SR usually better than real practi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Uptake: those not receiving the drug do not benefit from it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Many interventions acting on the same individual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Estimation of a common effect: The Mant-Hicks approac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2"/>
              <p:cNvSpPr txBox="1"/>
              <p:nvPr/>
            </p:nvSpPr>
            <p:spPr>
              <a:xfrm>
                <a:off x="1714680" y="4929120"/>
                <a:ext cx="55004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monRRR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b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Key issues when modelling intervention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umma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atients group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High quality information on efficac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M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CI vs thrombolysi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hronic Angin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ABG vs PCI vs Medical Managem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Heart Fail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Stati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Key facts in modelling interven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Key patients group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cute Coronary Syndrom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able Angi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Heart Fail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rok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Peripheral Arterial disea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rategies to Manage CVD Diseas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im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revent clinical diseas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ostpone disease progress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crease morta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ncrease Quality of Lif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cute Coronary Syndrom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Complex situation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efinitions keep changing for clinical purpose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pidemiological definitions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w Cen MT"/>
              </a:rPr>
              <a:t>Circulation. 2003 Nov 18;108(20):2543-9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w Cen MT"/>
              </a:rPr>
              <a:t>EuroCISS: </a:t>
            </a:r>
            <a:r>
              <a:rPr b="0" lang="fr-FR" sz="1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cuore.iss.it/eurocis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Groups (Clinical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cute Myocardial infarc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STEMI (ST elevation Myocardial Infarction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NSTEMI (Non ST elevation Myocardial infarc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Unstable angi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cute myocardial infar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Atherosclerotic plaque rupture leading to a sudden occlusion of a coronary artery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Myocardial muscle loss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Host of complications: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Electrical: arryhtmia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Mechanical: heart failure and cardiogenic shoc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Type of AMI (STEMI vs NSTEMI) is critical to guide decisions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Decrease size of infarct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Treat complication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Stabilize atherosclerotic plaque to prevent further ischemic event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current AMI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fractory ischaemia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Stroke.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6" name="Picture 1" descr="Beneficial"/>
          <p:cNvPicPr/>
          <p:nvPr/>
        </p:nvPicPr>
        <p:blipFill>
          <a:blip r:embed="rId1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Likely to be beneficial"/>
          <p:cNvPicPr/>
          <p:nvPr/>
        </p:nvPicPr>
        <p:blipFill>
          <a:blip r:embed="rId2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Trade off between benefits and harms"/>
          <p:cNvPicPr/>
          <p:nvPr/>
        </p:nvPicPr>
        <p:blipFill>
          <a:blip r:embed="rId3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Unlikely to be beneficial"/>
          <p:cNvPicPr/>
          <p:nvPr/>
        </p:nvPicPr>
        <p:blipFill>
          <a:blip r:embed="rId4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Likely to be ineffective or harmful"/>
          <p:cNvPicPr/>
          <p:nvPr/>
        </p:nvPicPr>
        <p:blipFill>
          <a:blip r:embed="rId5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785880" y="1285920"/>
          <a:ext cx="7500960" cy="3844800"/>
        </p:xfrm>
        <a:graphic>
          <a:graphicData uri="http://schemas.openxmlformats.org/drawingml/2006/table">
            <a:tbl>
              <a:tblPr/>
              <a:tblGrid>
                <a:gridCol w="3166920"/>
                <a:gridCol w="2166840"/>
                <a:gridCol w="2167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ffect on mort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ype 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ngiotensin Converting Enzym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pi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EMI: Primary percutaneous coronary intervention (P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EMI: Thrombo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412" name="Down Arrow 12"/>
          <p:cNvSpPr/>
          <p:nvPr/>
        </p:nvSpPr>
        <p:spPr>
          <a:xfrm>
            <a:off x="4429080" y="17146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Down Arrow 13"/>
          <p:cNvSpPr/>
          <p:nvPr/>
        </p:nvSpPr>
        <p:spPr>
          <a:xfrm>
            <a:off x="4429080" y="23526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Down Arrow 14"/>
          <p:cNvSpPr/>
          <p:nvPr/>
        </p:nvSpPr>
        <p:spPr>
          <a:xfrm>
            <a:off x="4429080" y="300024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Down Arrow 15"/>
          <p:cNvSpPr/>
          <p:nvPr/>
        </p:nvSpPr>
        <p:spPr>
          <a:xfrm>
            <a:off x="4429080" y="378612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Down Arrow 16"/>
          <p:cNvSpPr/>
          <p:nvPr/>
        </p:nvSpPr>
        <p:spPr>
          <a:xfrm>
            <a:off x="4429080" y="45720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7"/>
          <p:cNvSpPr/>
          <p:nvPr/>
        </p:nvSpPr>
        <p:spPr>
          <a:xfrm>
            <a:off x="1785960" y="5572080"/>
            <a:ext cx="5929200" cy="916920"/>
          </a:xfrm>
          <a:prstGeom prst="rect">
            <a:avLst/>
          </a:prstGeom>
          <a:gradFill rotWithShape="0">
            <a:gsLst>
              <a:gs pos="0">
                <a:srgbClr val="b7d3ed"/>
              </a:gs>
              <a:gs pos="100000">
                <a:srgbClr val="e9f0f8"/>
              </a:gs>
            </a:gsLst>
            <a:lin ang="5400000"/>
          </a:gradFill>
          <a:ln w="9360">
            <a:solidFill>
              <a:srgbClr val="8fb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going de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CI vs.  thromb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Unstable Angin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Atherosclerotic plaque unstable, producing inflammatory and thrombotic phenomena causing myocardial ischemia but not myocardial muscle death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New  symptoms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Recent change in the stable anginal symptoms pattern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No evidence of myocardial necrosis. 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Avoid progression to AMI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Stabilize atherosclerotic plaque to avoid progression of ischemia (eg: to AMI)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evascularization strategies based on risk of future events and anatomy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AMI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fractory ischaemia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 admission to hospital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714240" y="1714680"/>
          <a:ext cx="7500960" cy="4036680"/>
        </p:xfrm>
        <a:graphic>
          <a:graphicData uri="http://schemas.openxmlformats.org/drawingml/2006/table">
            <a:tbl>
              <a:tblPr/>
              <a:tblGrid>
                <a:gridCol w="3167280"/>
                <a:gridCol w="2166840"/>
                <a:gridCol w="2166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ffect on mort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ype 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pirin and Hepar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pIIb/IIIa inhibitors/Clopidogr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rcutaneous coronary intervention (P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B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422" name="Down Arrow 4"/>
          <p:cNvSpPr/>
          <p:nvPr/>
        </p:nvSpPr>
        <p:spPr>
          <a:xfrm>
            <a:off x="4429080" y="21430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Down Arrow 5"/>
          <p:cNvSpPr/>
          <p:nvPr/>
        </p:nvSpPr>
        <p:spPr>
          <a:xfrm>
            <a:off x="4429080" y="29242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Down Arrow 6"/>
          <p:cNvSpPr/>
          <p:nvPr/>
        </p:nvSpPr>
        <p:spPr>
          <a:xfrm>
            <a:off x="4429080" y="357192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Down Arrow 7"/>
          <p:cNvSpPr/>
          <p:nvPr/>
        </p:nvSpPr>
        <p:spPr>
          <a:xfrm>
            <a:off x="4429080" y="43578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Down Arrow 8"/>
          <p:cNvSpPr/>
          <p:nvPr/>
        </p:nvSpPr>
        <p:spPr>
          <a:xfrm>
            <a:off x="4429080" y="51436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4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4:26:09Z</dcterms:created>
  <dc:creator>Martin O'Flaherty</dc:creator>
  <dc:description/>
  <dc:language>en-US</dc:language>
  <cp:lastModifiedBy>Computing Services</cp:lastModifiedBy>
  <dcterms:modified xsi:type="dcterms:W3CDTF">2008-04-09T12:50:59Z</dcterms:modified>
  <cp:revision>40</cp:revision>
  <dc:subject/>
  <dc:title>Slide 1</dc:title>
</cp:coreProperties>
</file>